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8877-8DF7-4517-9898-695D6CB7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9B5C-2E67-41D4-9858-698DCE01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2749-E535-4594-9898-A9F63CC3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02C1-552B-432E-9057-E71D17C5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B1B3-AF15-49AB-83FA-FDE1733C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5E31-14E9-4044-997D-F0EF0065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FE16-C7FC-4AA4-BF9D-DA3E6F7B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7167-1C09-46F3-8340-609DE9A0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E472-2DBB-4409-8912-3DB679F7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FE86-51E8-4D79-BD41-F3D1F949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7649-D5D5-498A-9792-DB2656E8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5C6F-2676-4BE0-8DE1-4CCBF4F9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0645-24A3-43BD-8EA7-8C997CB8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6653-5719-4182-9515-0165B5E4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4AFD-821F-424E-A939-20329D44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6F46-3E0D-4354-8B32-F621F022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FC41-F14E-4A30-89BA-CB4B43AA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A4D78-D935-4135-A246-34A53FA3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318E4-0541-433C-B02E-963B3000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BDF01-5EF8-4D40-9A6E-83677A9E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36BE6-FB2A-4221-AC11-5DDD1B06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D2A7B-CB02-463E-8F7B-4791A30F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6898-BFFF-4654-B33E-97228D09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68B01-F4F1-4ECF-A2C5-B0061318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779A8-6F39-4FF1-A233-4BDF0E6F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DE789-D268-4083-AB1B-C81EE47A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CE126-E061-4253-A767-CE625F10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99D02-F2CA-4FED-A131-64864538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D47C9-E09E-493D-BCF2-D1701BB8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50528-565F-49B6-859B-9B464294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54DBA-5ECB-44F7-AF7A-1A150CE5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A8130-5801-41FC-9E2D-D0252B78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CBFF8-CD0E-4AE3-ABE9-18D2B1DE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394B-1B49-44C0-BF03-45DB31EA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37556-3501-4EA9-B98B-BBFC55A4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1A946-982D-43CC-A03F-5EDB8DB8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39225-9883-40A9-8F8E-D6878374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54FB3-0C95-4715-AE5F-9CCABBA1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95069-0689-462F-AB84-00087FFF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EBADB-F8B9-4E33-A59D-041F8A09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88A4E-FA8A-470A-9931-5D269F79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F0599-03DB-4AC1-B60A-0FA26B50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8EE1B-F1C2-43AB-86E9-922C2DD3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D7ED-11C9-49B0-BBB9-CB6F46A4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C724-047C-487F-B568-CEFAEDF1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DAF6-FC9A-4AB9-B90E-4626750D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5F2D-F80F-4C4D-8847-8C8BF20F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643D-2640-44E1-AE4D-529DA875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0AE2-58EB-41D4-98B4-016938905C0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A01B-AAD2-478C-B87E-C7159B2ACC1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5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7991-FA7A-4457-903A-D7DE116A0C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0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C169-CD81-41F4-81C0-F2E037C705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THER RUSSIA’S PAST 1918-2000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Daniel Driscol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lson Wo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sabella La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Russian Civil W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d by the treaty of Brest-Litov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lict where the red army (communists) defended the Bolshevik government from the white army (anti Bolshevi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zechoslovak legion retaliates and takes control of Trans-Siberian rail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anti Bolshevik authorities app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lshevik govern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13:40:04Z</dcterms:created>
  <dc:creator> </dc:creator>
  <dc:description/>
  <dc:language>en-US</dc:language>
  <cp:lastModifiedBy> </cp:lastModifiedBy>
  <dcterms:modified xsi:type="dcterms:W3CDTF">2010-12-20T14:07:12Z</dcterms:modified>
  <cp:revision>2</cp:revision>
  <dc:subject/>
  <dc:title>MOTHER RUSSIA’S PAST 1918-2000</dc:title>
</cp:coreProperties>
</file>